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9E47-90E2-4A55-883C-8494BDC7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4065-35AB-404E-AF6B-1041DFBC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023-A7DB-4B69-BB33-4DF32B06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3971-4D50-4EC7-B5C1-0D1EC59A2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E5C3-4983-445B-9A3C-6A337ED4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37EB-70AE-4DD8-B487-A01DC59D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8D98-2457-4E2D-A199-BEFAEABD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39CE-5AEF-43BE-9D29-426BFA3E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57EB-63B1-4B23-B685-A5D82C31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336D-C3A5-442F-B541-463E61D4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0037-1831-4AB0-A265-39AD4147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584-DB14-427E-964E-00526CF1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D36E-6DD3-4CE4-8798-C80EA07A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DCB5-312F-4B52-B33F-4812773D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2FF3-163E-43B0-9FAF-5D78F271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4158-9F5E-4F80-9701-8D31E291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C65C-F68D-4A71-B53B-7DB370C3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4A4E-0767-4147-A77D-D63DB25A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CB7-0B0C-4099-86DD-77AFFC07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AB3-CCCC-4E88-8395-1A761C74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3F2-0226-416D-8974-D57B4D91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4C0-C91C-46E9-98E2-5FE70755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97F-6E20-41FD-9D07-74EC2CE9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3CF2-6134-4AD4-AE8D-24382512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06CC-E3E7-4245-81E4-06F872F25471}" type="slidenum">
              <a:rPr b="0" lang="ro-RO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CB1F-14B8-4031-8237-8A13C9F850AD}" type="slidenum">
              <a:rPr b="0" lang="ro-RO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4000" y="692280"/>
            <a:ext cx="82580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宋体"/>
              </a:rPr>
              <a:t>Situaţia candidaţilor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  <a:ea typeface="宋体"/>
              </a:rPr>
              <a:t>la </a:t>
            </a:r>
            <a:r>
              <a:rPr b="1" lang="ro-RO" sz="1600" spc="-1" strike="noStrike">
                <a:solidFill>
                  <a:srgbClr val="ffffff"/>
                </a:solidFill>
                <a:latin typeface="Tahoma"/>
              </a:rPr>
              <a:t>CONCURSUL NAŢIONAL DE OCUPARE A POSTURILOR DIDACTICE/CATEDRELOR VACANTE/REZERVATE DIN ÎNVĂŢĂMÂNTUL PREUNIVERSITAR - 2024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  <a:ea typeface="宋体"/>
              </a:rPr>
              <a:t>pentru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宋体"/>
              </a:rPr>
              <a:t> disciplinele socio-uman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71640" y="1989000"/>
          <a:ext cx="7970760" cy="3930840"/>
        </p:xfrm>
        <a:graphic>
          <a:graphicData uri="http://schemas.openxmlformats.org/drawingml/2006/table">
            <a:tbl>
              <a:tblPr/>
              <a:tblGrid>
                <a:gridCol w="4467240"/>
                <a:gridCol w="1163520"/>
                <a:gridCol w="1300320"/>
                <a:gridCol w="1039680"/>
              </a:tblGrid>
              <a:tr h="66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DISCIPL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TOTAL CANDIDA</a:t>
                      </a:r>
                      <a:r>
                        <a:rPr b="1" lang="ro-RO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Ț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ÎNSCRIȘ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TOTAL LUCRĂRI EVALU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PROC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86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DUCATIE SOCIALA (GANDIRE CRITICA SI DREPTURILE COPILULUI, EDUCATIE INTERCULTURALA, EDUCATIE PENTRU CETATENIE DEMOCRAT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5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80,5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81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CONOMIE, EDUCATIE ANTREPRENORIALA, ECONOMIE APLICATA SI EDUCATIE SOCIALA - EDUCATIE ECONOMICO - FINANCI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6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3,9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668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OSOFIE SI LOGICA, ARGUMENTARE SI COMUNIC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8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78,31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51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SIHOLOG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3,1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51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SIHOPEDAGOGIE SPECIA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28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7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0,9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5694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Tahoma"/>
                <a:ea typeface="宋体"/>
              </a:rPr>
              <a:t>Situaţia, pe tranşe de note, a candidaţilor </a:t>
            </a:r>
            <a:r>
              <a:rPr b="1" lang="ro-RO" sz="2000" spc="-1" strike="noStrike">
                <a:solidFill>
                  <a:srgbClr val="eaeaea"/>
                </a:solidFill>
                <a:latin typeface="Tahoma"/>
                <a:ea typeface="宋体"/>
              </a:rPr>
              <a:t>cărora le-</a:t>
            </a:r>
            <a:r>
              <a:rPr b="1" lang="it-IT" sz="2000" spc="-1" strike="noStrike">
                <a:solidFill>
                  <a:srgbClr val="eaeaea"/>
                </a:solidFill>
                <a:latin typeface="Tahoma"/>
                <a:ea typeface="宋体"/>
              </a:rPr>
              <a:t>au </a:t>
            </a:r>
            <a:r>
              <a:rPr b="1" lang="ro-RO" sz="2000" spc="-1" strike="noStrike">
                <a:solidFill>
                  <a:srgbClr val="eaeaea"/>
                </a:solidFill>
                <a:latin typeface="Tahoma"/>
                <a:ea typeface="宋体"/>
              </a:rPr>
              <a:t>fost evaluate lucrările în cadrul </a:t>
            </a:r>
            <a:r>
              <a:rPr b="1" lang="ro-RO" sz="1800" spc="-1" strike="noStrike">
                <a:solidFill>
                  <a:srgbClr val="eaeaea"/>
                </a:solidFill>
                <a:latin typeface="Tahoma"/>
              </a:rPr>
              <a:t>CONCURSULUI NAŢIONAL DE OCUPARE A POSTURILOR DIDACTICE/CATEDRELOR VACANTE/REZERVATE DIN ÎNVĂŢĂMÂNTUL PREUNIVERSITAR - 2024 </a:t>
            </a:r>
            <a:r>
              <a:rPr b="1" lang="it-IT" sz="2000" spc="-1" strike="noStrike">
                <a:solidFill>
                  <a:srgbClr val="eaeaea"/>
                </a:solidFill>
                <a:latin typeface="Tahoma"/>
                <a:ea typeface="宋体"/>
              </a:rPr>
              <a:t>la disciplinele socio-umane: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0920" y="2060640"/>
          <a:ext cx="8713800" cy="4027320"/>
        </p:xfrm>
        <a:graphic>
          <a:graphicData uri="http://schemas.openxmlformats.org/drawingml/2006/table">
            <a:tbl>
              <a:tblPr/>
              <a:tblGrid>
                <a:gridCol w="4176720"/>
                <a:gridCol w="1079280"/>
                <a:gridCol w="685800"/>
                <a:gridCol w="1181160"/>
                <a:gridCol w="1077840"/>
                <a:gridCol w="513000"/>
              </a:tblGrid>
              <a:tr h="68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DISCIPL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NR. LUCRĂRI EVALU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NO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SUB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5.00-6.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7.00-9.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3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DUCATIE SOCIALA (GANDIRE CRITICA SI DREPTURILE COPILULUI, EDUCATIE INTERCULTURALA, EDUCATIE PENTRU CETATENIE DEMOCRAT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5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1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3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CONOMIE, EDUCATIE ANTREPRENORIALA, ECONOMIE APLICATA SI EDUCATIE SOCIALA - EDUCATIE ECONOMICO - FINANCI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17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5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58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OSOFIE SI LOGICA, ARGUMENTARE SI COMUNICA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47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SIHOLOGI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SIHOPEDAGOGIE SPECIA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7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4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2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4000" y="692280"/>
            <a:ext cx="82580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宋体"/>
              </a:rPr>
              <a:t>Situaţia candidaţilor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  <a:ea typeface="宋体"/>
              </a:rPr>
              <a:t>la </a:t>
            </a:r>
            <a:r>
              <a:rPr b="1" lang="ro-RO" sz="1800" spc="-1" strike="noStrike">
                <a:solidFill>
                  <a:srgbClr val="ffffff"/>
                </a:solidFill>
                <a:latin typeface="Tahoma"/>
              </a:rPr>
              <a:t>EXAMENUL NAŢIONAL PENTRU DEFINITIVARE ÎN ÎNVĂŢĂMÂNTUL PREUNIVERSITAR- 2024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1800" spc="-1" strike="noStrike">
                <a:solidFill>
                  <a:srgbClr val="ffffff"/>
                </a:solidFill>
                <a:latin typeface="Tahoma"/>
                <a:ea typeface="宋体"/>
              </a:rPr>
              <a:t>pentru</a:t>
            </a:r>
            <a:r>
              <a:rPr b="0" lang="it-IT" sz="1800" spc="-1" strike="noStrike">
                <a:solidFill>
                  <a:srgbClr val="ffffff"/>
                </a:solidFill>
                <a:latin typeface="Tahoma"/>
                <a:ea typeface="宋体"/>
              </a:rPr>
              <a:t> disciplinele socio-umane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71640" y="1989000"/>
          <a:ext cx="7970760" cy="4008600"/>
        </p:xfrm>
        <a:graphic>
          <a:graphicData uri="http://schemas.openxmlformats.org/drawingml/2006/table">
            <a:tbl>
              <a:tblPr/>
              <a:tblGrid>
                <a:gridCol w="4467240"/>
                <a:gridCol w="1163520"/>
                <a:gridCol w="1300320"/>
                <a:gridCol w="1039680"/>
              </a:tblGrid>
              <a:tr h="86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DISCIPL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TOTAL CANDIDA</a:t>
                      </a:r>
                      <a:r>
                        <a:rPr b="1" lang="ro-RO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Ț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ÎNSCRIȘ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TOTAL LUCRĂRI EVALU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PROC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76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DUCATIE SOCIALA (GANDIRE CRITICA SI DREPTURILE COPILULUI, EDUCATIE INTERCULTURALA, EDUCATIE PENTRU CETATENIE DEMOCRAT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95,23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717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CONOMIE, EDUCATIE ANTREPRENORIALA, ECONOMIE APLICATA SI EDUCATIE SOCIALA - EDUCATIE ECONOMICO - FINANCI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82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,9</a:t>
                      </a:r>
                      <a:r>
                        <a:rPr b="0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7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58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OSOFIE SI LOGICA, ARGUMENTARE SI COMUNICA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86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,</a:t>
                      </a:r>
                      <a:r>
                        <a:rPr b="0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6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SIHOLOGI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70,5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52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SIHOPEDAGOGIE SPECIA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86,77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5694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aeaea"/>
                </a:solidFill>
                <a:latin typeface="Tahoma"/>
                <a:ea typeface="宋体"/>
              </a:rPr>
              <a:t>Situaţia, pe tranşe de note, a candidaţilor </a:t>
            </a:r>
            <a:r>
              <a:rPr b="1" lang="ro-RO" sz="2000" spc="-1" strike="noStrike">
                <a:solidFill>
                  <a:srgbClr val="eaeaea"/>
                </a:solidFill>
                <a:latin typeface="Tahoma"/>
                <a:ea typeface="宋体"/>
              </a:rPr>
              <a:t>cărora le-</a:t>
            </a:r>
            <a:r>
              <a:rPr b="1" lang="it-IT" sz="2000" spc="-1" strike="noStrike">
                <a:solidFill>
                  <a:srgbClr val="eaeaea"/>
                </a:solidFill>
                <a:latin typeface="Tahoma"/>
                <a:ea typeface="宋体"/>
              </a:rPr>
              <a:t>au </a:t>
            </a:r>
            <a:r>
              <a:rPr b="1" lang="ro-RO" sz="2000" spc="-1" strike="noStrike">
                <a:solidFill>
                  <a:srgbClr val="eaeaea"/>
                </a:solidFill>
                <a:latin typeface="Tahoma"/>
                <a:ea typeface="宋体"/>
              </a:rPr>
              <a:t>fost evaluate lucrările în cadrul </a:t>
            </a:r>
            <a:r>
              <a:rPr b="1" lang="ro-RO" sz="1800" spc="-1" strike="noStrike">
                <a:solidFill>
                  <a:srgbClr val="eaeaea"/>
                </a:solidFill>
                <a:latin typeface="Tahoma"/>
              </a:rPr>
              <a:t>EXAMENULUI NAŢIONAL PENTRU DEFINITIVARE ÎN ÎNVĂŢĂMÂNTUL PREUNIVERSITAR-2024</a:t>
            </a:r>
            <a:r>
              <a:rPr b="1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eaeaea"/>
                </a:solidFill>
                <a:latin typeface="Tahoma"/>
                <a:ea typeface="宋体"/>
              </a:rPr>
              <a:t>la disciplinele socio-umane: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50920" y="2060640"/>
          <a:ext cx="8713800" cy="4027320"/>
        </p:xfrm>
        <a:graphic>
          <a:graphicData uri="http://schemas.openxmlformats.org/drawingml/2006/table">
            <a:tbl>
              <a:tblPr/>
              <a:tblGrid>
                <a:gridCol w="4176720"/>
                <a:gridCol w="1079280"/>
                <a:gridCol w="685800"/>
                <a:gridCol w="1181160"/>
                <a:gridCol w="1077840"/>
                <a:gridCol w="513000"/>
              </a:tblGrid>
              <a:tr h="684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DISCIPL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NR. LUCRĂRI EVALU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NO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SUB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5.00-</a:t>
                      </a:r>
                      <a:r>
                        <a:rPr b="1" lang="ro-RO" sz="14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.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14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8</a:t>
                      </a: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.00-9.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103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DUCATIE SOCIALA (GANDIRE CRITICA SI DREPTURILE COPILULUI, EDUCATIE INTERCULTURALA, EDUCATIE PENTRU CETATENIE DEMOCRAT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ECONOMIE, EDUCATIE ANTREPRENORIALA, ECONOMIE APLICATA SI EDUCATIE SOCIALA - EDUCATIE ECONOMICO - FINANCI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3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587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OSOFIE SI LOGICA, ARGUMENTARE SI COMUNICAR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47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SIHOLOGI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1</a:t>
                      </a: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  <a:tr h="47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PSIHOPEDAGOGIE SPECIAL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25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1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o-RO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7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a0aff"/>
                          </a:solidFill>
                          <a:latin typeface="Tahoma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2:16:38Z</dcterms:created>
  <dc:creator>M</dc:creator>
  <dc:description/>
  <dc:language>en-US</dc:language>
  <cp:lastModifiedBy>admin</cp:lastModifiedBy>
  <dcterms:modified xsi:type="dcterms:W3CDTF">2024-09-05T09:19:37Z</dcterms:modified>
  <cp:revision>22</cp:revision>
  <dc:subject/>
  <dc:title>Proba E - d) Socio-umane, Bacalaureat 2010</dc:title>
</cp:coreProperties>
</file>